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44F-3B8E-435A-9BAF-CF3F6C28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BA1-BF79-4FD9-BA54-C76DC607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8C6-E97A-4EBD-8159-658D2B72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3C9-441B-4A32-8F43-C8A37983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1105-155D-4BE0-84BF-33E390B4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061-3635-4FA7-9C29-3589DDEE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585-B841-487B-BFF3-F437E3E1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FDBD-8B45-423C-ABAE-CFC1DD0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4F39-97B2-4E30-9223-BE24B817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D3E-2C6E-415F-A9B5-C155F3CE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BFD-C0FD-4381-B184-E7F9F9A6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F9B-BE03-420E-B17C-BAA727DC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FEFF-64C2-40B1-AEBF-6A514A9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47C-7F5A-4B06-9292-F7249EFD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E1AA-47F7-44B0-8D2B-0406D47F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6255-2231-4990-AD24-BBE5B58D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F8BA-068F-4BFB-B6BC-A6AC465A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730A-016C-4CEF-A8E7-B3D276C4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5A94-48AB-48D5-B776-4E01B18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4B02-95C3-492B-B927-9207359C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DC2E-A0C8-4BC0-99B2-53DA98A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CD63-9A2B-41ED-B3B0-67DB375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704-7B4A-4375-8915-4128D18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6C09-E61A-480C-B6C1-7CC5319C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D233-FCBE-4630-B079-9282EE6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8331-146F-433F-A27A-1108534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D181-BC9A-44C3-99F0-20C91C8C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EAA5-C4D0-4354-ACDB-929116C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8AA2-5A91-484A-AAE1-48A45473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CB90-E1F5-4385-9A2D-E1B97A4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3066-ECF5-467D-AF5B-264593F9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B4D5-4D2F-4538-B847-2FA141AB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802E-EB9A-447C-917F-A079FFF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767-EED5-4D83-AEE2-64F89DC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DF53-277F-4757-9CCE-73F84BC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1443-5DD3-468A-9637-DFCFDF3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585F-B5CF-4F6B-9900-34D1DB93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DE82-CF37-4ED6-96C3-794F05A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E1BF-F772-46B3-AE77-FE53E174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BBAA-831E-4954-BB91-C8AC4D7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F77F-D4E9-4067-9091-FC4EFD1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7DBE-694B-4880-B87F-85A69B2D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2243-EA30-44D8-ABA5-50C6D85D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BE39E-B432-4064-B4AD-04366330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798-672D-4E75-B3CA-9AB0B06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6C05-5BE1-48D5-B20D-C8CD1DA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3581-D398-4889-A61F-DF4830C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69CC-C516-40F8-A164-1786D932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A69C-6A91-4055-A7A0-86DF48F2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78D8-06A1-40C9-A66C-8732076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D3B0-5F78-4859-8105-2D73831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1ED7-0297-4B3B-B40E-E09C3FD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87F2-6A5D-4873-8372-3130A32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31B5-A3D2-498B-9A50-43E631B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DCE7-65D8-4CFC-96DA-A723BB82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543-6655-4AEC-BC03-F44B999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F01B-E93D-44E9-B923-E47F9C6E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55E-9615-470F-8D32-A20793B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0B7-CF59-4FB0-B903-C16CAA1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8D0-9377-4E99-90AA-CD6AB69E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03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462-34CD-45BC-A153-1084C4CD6DB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03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6284-2DB0-47DA-9EA9-D5AF10A3582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03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E91-9772-4CD2-80BD-231B41B9DD9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03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F72-53C4-4184-85AC-B704BBA9E1B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03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3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D43-8B32-45D9-A8C0-BE0044319AE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ambria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ambria"/>
              </a:rPr>
              <a:t>Бойко Г.В.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ambria"/>
              </a:rPr>
              <a:t>воспитатель подготовительно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ambria"/>
              </a:rPr>
              <a:t>к школе групп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RevueCyr"/>
              </a:rPr>
              <a:t>70 лет Великой Побед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«ПАМЯТНИКИ ВОИНСКОЙ СЛАВЫ»</a:t>
            </a:r>
            <a:endParaRPr b="0" lang="en-US" sz="36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684360" y="189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униципальное автономное дошкольное образовательное учреждение Центр развития ребенка – детский сад № 4 «Волшебная страна»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-к Анап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70 лет Победы"/>
          <p:cNvPicPr/>
          <p:nvPr/>
        </p:nvPicPr>
        <p:blipFill>
          <a:blip r:embed="rId2"/>
          <a:stretch/>
        </p:blipFill>
        <p:spPr>
          <a:xfrm>
            <a:off x="201600" y="3141720"/>
            <a:ext cx="3665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4"/>
          <p:cNvSpPr/>
          <p:nvPr/>
        </p:nvSpPr>
        <p:spPr>
          <a:xfrm>
            <a:off x="112680" y="4729320"/>
            <a:ext cx="8929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101"/>
                </a:solidFill>
                <a:latin typeface="Cambria"/>
              </a:rPr>
              <a:t>Памятник Дмитрию Калинин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Расположен по дороге на Большой Утриш, возле поселка Сукко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митрий Калинин — капитан советских десантников, погибших в бою с немецко-фашистскими захватчиками во время войны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Фашисты получили приказ взять командира живым. Прижав к груди раненой рукой последнюю гранату, подпустил гитлеровцев почти вплотную, он здоровой рукой рванул чеку гранаты и шагнул вперед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rcRect l="0" t="16068" r="0" b="16068"/>
          <a:stretch/>
        </p:blipFill>
        <p:spPr>
          <a:xfrm>
            <a:off x="68400" y="66600"/>
            <a:ext cx="9001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396720" y="62064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5 мая  2011г. Президент России Дмитрий Медведев подписал Указ </a:t>
            </a:r>
            <a:r>
              <a:rPr b="0" lang="en-US" sz="2400" spc="-1" strike="noStrike">
                <a:solidFill>
                  <a:srgbClr val="820101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о присвоении звания </a:t>
            </a:r>
            <a:r>
              <a:rPr b="0" lang="en-US" sz="2400" spc="-1" strike="noStrike">
                <a:solidFill>
                  <a:srgbClr val="820101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«ГОРОД ВОИНСКОЙ СЛАВЫ» </a:t>
            </a:r>
            <a:r>
              <a:rPr b="0" lang="en-US" sz="2400" spc="-1" strike="noStrike">
                <a:solidFill>
                  <a:srgbClr val="820101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городу-курорту Анапа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Picture 2" descr="Открытие стелы в честь Анапы - Города Воинской Славы"/>
          <p:cNvPicPr/>
          <p:nvPr/>
        </p:nvPicPr>
        <p:blipFill>
          <a:blip r:embed="rId2"/>
          <a:stretch/>
        </p:blipFill>
        <p:spPr>
          <a:xfrm>
            <a:off x="1646280" y="2543040"/>
            <a:ext cx="6021360" cy="4149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4"/>
          <p:cNvSpPr/>
          <p:nvPr/>
        </p:nvSpPr>
        <p:spPr>
          <a:xfrm>
            <a:off x="179280" y="494172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росли новые поколения. Для них Великая Отечественная война – далекая истор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 нас важно  сохранить то, что имеем, и  помнить о том, что было. Нельзя забывать о героических подвигах  героев,  в честь которых  были воздвигнуты памятники. Вечная память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2"/>
          <a:srcRect l="0" t="11807" r="0" b="11807"/>
          <a:stretch/>
        </p:blipFill>
        <p:spPr>
          <a:xfrm>
            <a:off x="68400" y="66600"/>
            <a:ext cx="9001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mbria"/>
              </a:rPr>
              <a:t>СПАСИБО  ЗА  ВНИМАНИЕ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1" name="Picture 4" descr="Скачать 9 мая картинки георгиевская лента 5"/>
          <p:cNvPicPr/>
          <p:nvPr/>
        </p:nvPicPr>
        <p:blipFill>
          <a:blip r:embed="rId2"/>
          <a:stretch/>
        </p:blipFill>
        <p:spPr>
          <a:xfrm>
            <a:off x="108000" y="3716280"/>
            <a:ext cx="89280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3"/>
          <p:cNvSpPr/>
          <p:nvPr/>
        </p:nvSpPr>
        <p:spPr>
          <a:xfrm>
            <a:off x="368280" y="69840"/>
            <a:ext cx="8424720" cy="75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Цель: </a:t>
            </a:r>
            <a:r>
              <a:rPr b="1" lang="en-US" sz="2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Обогащение детей знаниями о ВОВ, воспитание патриотизма, чувства гордости за сво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трану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Познакомить с историей Великой Отечественной войны, полной примеров величайшего героизма и мужества людей в борьбе за свободу Родины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Уточнить знания о празднике Дне Победы, объяснить, почему он так назван и кого поздравляют в этот день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Формировать нравственно-патриотические качества: храбрость, мужество, стремление защищать свою Родину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Дать детям представление о том, что народ помнит и чтит память героев в Великой Отечественной войны1941-1945 г.г.: в честь героев слагают стихи и песни, воздвигают памятники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Формировать мнение о недопустимости повторения войны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9 мая 2015 года исполняется 70 лет со дня Великой Победы.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о сколько бы ни минуло десятилетий, нельзя забывать о превращенных в пепел городах и селах, о невосполнимой утрате – миллионах человеческих жизней, сгоревших в пожаре Великой Отечественной войны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rcRect l="0" t="8119" r="0" b="0"/>
          <a:stretch/>
        </p:blipFill>
        <p:spPr>
          <a:xfrm>
            <a:off x="1547640" y="2708280"/>
            <a:ext cx="5637240" cy="3878280"/>
          </a:xfrm>
          <a:prstGeom prst="rect">
            <a:avLst/>
          </a:prstGeom>
          <a:ln w="19080">
            <a:solidFill>
              <a:srgbClr val="ad01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3"/>
          <p:cNvSpPr/>
          <p:nvPr/>
        </p:nvSpPr>
        <p:spPr>
          <a:xfrm>
            <a:off x="250920" y="11592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2 июня 1941 г. мирную жизнь города прервала война. Захваченная фашистами Анапа была полностью разрушена. Были взорваны все курортные и общественные здания, заминирован пляж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ждый третий житель Анапы, ушедший на фронт, не вернулся домой - погиб или пропал без вести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Анапа в годы великой отечественной войны"/>
          <p:cNvPicPr/>
          <p:nvPr/>
        </p:nvPicPr>
        <p:blipFill>
          <a:blip r:embed="rId2"/>
          <a:srcRect l="0" t="11888" r="0" b="15809"/>
          <a:stretch/>
        </p:blipFill>
        <p:spPr>
          <a:xfrm>
            <a:off x="2124000" y="2606760"/>
            <a:ext cx="4751640" cy="3722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241" name="Прямоугольник 4"/>
          <p:cNvSpPr/>
          <p:nvPr/>
        </p:nvSpPr>
        <p:spPr>
          <a:xfrm>
            <a:off x="250920" y="62895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Здание  Госбанка  (Улицы Пушкина и Тираспольская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250920" y="260280"/>
            <a:ext cx="8642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Анапа была единственным портом на Кавказском побережье, который использовали военно-морские силы фашистов. Поэтому укреплению Анапы фашистское командование придавало серьезное значение. День и ночь ходили по городу патрули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о жители города и района как могли боролись с оккупантами. Создавались партизанские отряды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http://101hotels.info/uploads/image/text_block/2967/113862.jpg"/>
          <p:cNvPicPr/>
          <p:nvPr/>
        </p:nvPicPr>
        <p:blipFill>
          <a:blip r:embed="rId2"/>
          <a:stretch/>
        </p:blipFill>
        <p:spPr>
          <a:xfrm>
            <a:off x="250920" y="2727360"/>
            <a:ext cx="5257800" cy="3943440"/>
          </a:xfrm>
          <a:prstGeom prst="rect">
            <a:avLst/>
          </a:prstGeom>
          <a:ln w="9360">
            <a:solidFill>
              <a:srgbClr val="820101"/>
            </a:solidFill>
            <a:miter/>
          </a:ln>
        </p:spPr>
      </p:pic>
      <p:pic>
        <p:nvPicPr>
          <p:cNvPr id="244" name="Picture 4" descr="http://fpvestnik.ru/wp-content/uploads/anapa-in-ruins.jpg"/>
          <p:cNvPicPr/>
          <p:nvPr/>
        </p:nvPicPr>
        <p:blipFill>
          <a:blip r:embed="rId3"/>
          <a:stretch/>
        </p:blipFill>
        <p:spPr>
          <a:xfrm>
            <a:off x="5305320" y="3357720"/>
            <a:ext cx="3587760" cy="2390760"/>
          </a:xfrm>
          <a:prstGeom prst="rect">
            <a:avLst/>
          </a:prstGeom>
          <a:ln w="9360">
            <a:solidFill>
              <a:srgbClr val="8201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185760" y="209520"/>
            <a:ext cx="87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оловьянова Екатерина Ивановна (1922–1942), жительница города Анапа, комсомолка. В период Великой Отечественной войны стала членом подпольной комсомольской организации. Участвовала в боевых операциях против оккупационных войск. Схвачена фашистами и казнена вместе со своими товарищами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её честь названа самая зеленая улица города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600120" y="2679840"/>
            <a:ext cx="2646360" cy="3728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3635280" y="2679840"/>
            <a:ext cx="49690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395280" y="494172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20101"/>
                </a:solidFill>
                <a:latin typeface="Cambria"/>
              </a:rPr>
              <a:t>Мемориал на пересечении </a:t>
            </a:r>
            <a:r>
              <a:rPr b="0" lang="en-US" sz="2200" spc="-1" strike="noStrike">
                <a:solidFill>
                  <a:srgbClr val="820101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820101"/>
                </a:solidFill>
                <a:latin typeface="Cambria"/>
              </a:rPr>
              <a:t>улиц Ленина и Советской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На этом месте располагался передвижной госпиталь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Умерших от ранений хоронили тут же, за госпиталем в братской могиле. В 1973 году здесь была установлена стела с фамилиями захороненных здесь солдат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4" descr="Памятники событиям Великой Отечественной Войны Город Анапа: информация и фотографии"/>
          <p:cNvPicPr/>
          <p:nvPr/>
        </p:nvPicPr>
        <p:blipFill>
          <a:blip r:embed="rId2"/>
          <a:srcRect l="0" t="11804" r="0" b="11804"/>
          <a:stretch/>
        </p:blipFill>
        <p:spPr>
          <a:xfrm>
            <a:off x="68400" y="66600"/>
            <a:ext cx="9001080" cy="4581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7"/>
          <p:cNvSpPr/>
          <p:nvPr/>
        </p:nvSpPr>
        <p:spPr>
          <a:xfrm>
            <a:off x="539640" y="4869000"/>
            <a:ext cx="7993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101"/>
                </a:solidFill>
                <a:latin typeface="Cambria"/>
              </a:rPr>
              <a:t>Памятник морскому десанту у Морского вокзала.                       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С января 1943 года начался второй этап битвы за Кавказ –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от обороны советские войска перешли в наступление. Отступая, гитлеровцы минировали и морские акватории в бухтах. В результате погибло около 500 десантников…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2"/>
          <a:srcRect l="0" t="4752" r="0" b="4752"/>
          <a:stretch/>
        </p:blipFill>
        <p:spPr>
          <a:xfrm>
            <a:off x="68400" y="66600"/>
            <a:ext cx="9001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539640" y="5373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Памятник на братской могиле  участников Гражданской и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еликой Отечественной войны  в сквере Славы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rcRect l="0" t="16068" r="0" b="16068"/>
          <a:stretch/>
        </p:blipFill>
        <p:spPr>
          <a:xfrm>
            <a:off x="68400" y="66600"/>
            <a:ext cx="9001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3:14:37Z</dcterms:created>
  <dc:creator>МСВ - 2</dc:creator>
  <dc:description/>
  <dc:language>en-US</dc:language>
  <cp:lastModifiedBy>Елена</cp:lastModifiedBy>
  <dcterms:modified xsi:type="dcterms:W3CDTF">2005-10-27T05:44:47Z</dcterms:modified>
  <cp:revision>15</cp:revision>
  <dc:subject/>
  <dc:title>Презентация PowerPoint</dc:title>
</cp:coreProperties>
</file>